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AAB-26B4-416D-8CDC-8B56579C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205-A2BC-4647-859D-A9388BF5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A61-E865-4B9B-AB26-0471ED25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077-6E91-48C7-B14D-4E19BDBF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EAAA-1D4E-4D75-B307-C7AED74E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5B7C-9196-4E88-8817-48779B69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2CE7-DFF2-493F-956C-53BEDB4D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FE8F-EDEF-4164-BA1B-5A06DFD1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E003-355D-4E06-AA83-5D5DFA54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5F19-8ACF-4DE6-8D56-F39E18E5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5907-4251-4DFF-820C-7A1F1E53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9A73-9B87-45D6-B766-3584C7AC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0CFE-1448-4C3C-ADE0-7DDB7907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14C8-E2D6-49CA-9773-30D2461E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262A-9567-4C05-825D-29B26C73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1604-5E8F-4A83-A294-4C2245C2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0CBC-71BF-4DA3-9E5E-48AFFC18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0FA-B280-4002-B0E4-D09AE10C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912-5565-4C25-AF7B-44409EF7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E09-F8FB-4B59-AB57-DE767706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4AC-0123-45C5-8B64-1FFED6CE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4EE-728F-4821-9E38-09A85551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1157-EEE0-4684-9757-87E8B9AB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1DE-2AE2-4F91-ADA8-F0D24A39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125C-397B-4E5F-ACBC-A15676D42D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82E6-6A35-49B6-B638-355D3F9321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image" Target="../media/image9.png"/><Relationship Id="rId11" Type="http://schemas.openxmlformats.org/officeDocument/2006/relationships/image" Target="../media/image5.png"/><Relationship Id="rId12" Type="http://schemas.openxmlformats.org/officeDocument/2006/relationships/image" Target="../media/image9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agement: An Applied Behavioral Sciences Approa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2058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gement Process</a:t>
            </a:r>
            <a:br>
              <a:rPr sz="4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Getting things done with and through people-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ontz and O’Donn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ting goals and objectives for the organ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inging together resources-people, equipment, etc… Integration of 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ing the performance level of particip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ing adjustments using feedback to increase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kills of a Mana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Sk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to use knowledge, methods, techniques and equipment necessary for specific ta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ed most in non-supervisory levels of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Sk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and judgment in working with peo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at all levels of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ual Sk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to understand the complexities of the overall organization…See the “Big Pictur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ed most at the executive level of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gredients For Effective Human Skill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ing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people behave the way they 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terns of behav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past behavior as a reference for future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ing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and direct behavior to reach go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ing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ipulating individuals and groups (training and facilita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ing the “right too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thing does not always work…must adap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rs are “behavioral scientist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ed Behavioral 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rs are “behavioral scientis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understand, predict, direct, change and control behavior = Behavioral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Systems of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s the organization into “who does what” and “who tells who to do what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organizations cannot overemphasize the importance of one group at the expense of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 cannot ignore the needs and pressures from the external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urpose of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value as perceived by followers 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uc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 who are not getting results aren’t really leading.” Management is influencing people towards meaningful purpo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rich, Zenger and Smallw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organizations focus on quality, respond quickly to change and innovate, develop and implement appropriate strategies, are willing to “network” with strategic partners and are committed to continuous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aging in a Rapidly Changing Wor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is created by “Megawave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gawaves include massive changes in the wor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t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olog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log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om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s that cannot adapt to change disappear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gawa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ce of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ing to accele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ulation wants “mor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y creates more 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etition is “one click awa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“Knowledge age is her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limited sub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loyees are highly specialized and stress is on flexi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ain of Leadership is Worldw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ders also think in international term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“New World Order”  is emer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uropean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F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ft from human warfare to  human welf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hallenge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leaders mu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e, adapt and commun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the ability to control their use of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the use of 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 leadership every hour of every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gement vs Leade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: “The process of working with and through individuals and groups and other resources to accomplish organizational goal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hip: “Whenever one person attempts to influence the behavior of an individual or a group, regardless of reason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fference is the “organizational goa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 10 Leadership and Management Concer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Richard I. Le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effective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ses management for most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feedback on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r inappropriate goal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enough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opportunity for advan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wards not related to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reasonable worklo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ss will not let me do my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challenging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luable Leadership Skil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HI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anagem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sourc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nked in order of impor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ship 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/intrapers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 oriented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al/time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s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ee Competencies of Leade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 cerebral/cognitive competen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standing the situation being influenc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 behavioral competen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ing behavior and resources to meet the contingencies of the sit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 process competen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acting with others so that people can understand and accept what you are influen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4:56:56Z</dcterms:created>
  <dc:creator>WSFCS Patron</dc:creator>
  <dc:description/>
  <dc:language>en-US</dc:language>
  <cp:lastModifiedBy>AEURY</cp:lastModifiedBy>
  <cp:lastPrinted>2004-06-01T02:49:53Z</cp:lastPrinted>
  <dcterms:modified xsi:type="dcterms:W3CDTF">2006-09-05T16:48:57Z</dcterms:modified>
  <cp:revision>6</cp:revision>
  <dc:subject/>
  <dc:title>Chapter 1</dc:title>
</cp:coreProperties>
</file>